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AAB6-DB11-4BB9-B847-75BD19A6A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069-6FAC-45A3-BAF7-83A402A7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C7F-8263-4B1F-B195-47CA93D5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3DCF-1571-4CE4-B3E7-EECAC827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F86-5109-4647-A51A-A2DB6106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988-1E96-4F7C-92BB-21F44442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B0B0-E80D-41D5-BDA4-D1A56F53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E56-EDC1-497C-AAA4-75129770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0AA-FEF1-45AF-8D3C-1E49F072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F15-7E62-4AE6-8198-7940779F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9D9-25CA-49E3-A17A-79A257DC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AE6-90C7-4101-9421-B1306CC8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C4A-0B40-4D49-B59C-900891EA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A6ED-6215-4C60-84A9-2642244E8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0" t="-2632" r="0" b="0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9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ww.fnal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8-03-22T10:09:15Z</dcterms:modified>
  <cp:revision>64</cp:revision>
  <dc:subject/>
  <dc:title>Space, Time and Einstein</dc:title>
</cp:coreProperties>
</file>